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1B4-6B13-448C-93C7-814A221A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660-8F72-4BB5-8C6D-9AEFE3B2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B5A-1A83-4352-A624-6DCB28B9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30D-5678-46C5-B985-3B6B6981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D0B-A881-455A-BDD6-1B71D006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174-78AF-4F63-B89A-565FDF9D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0AA-8081-4EB9-ACC0-440E07E4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1C0-F579-4507-B144-D80F4D95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970-B585-4115-B604-F55E5092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90D-8C31-4040-A69B-DB02BC2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90E-937E-4C02-B39F-BBA82B5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464-9B82-4635-B3A9-E05D8FE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5280-3647-41AC-A0B7-AB39A625E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庆礼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3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庆礼包里有很多各种各样的东西。有新家坡的小国旗，有食物给我们吃，还有一些用水贴在手或脸上的纹身。我们虽时都会把小国旗挥来挥去。里面还有灯棒，我们把电池装好了，就把它拿来玩。礼包里还有一个小帽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色彩兵分的烟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0666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庆庆典快结束了，突然，黑暗的夜空爆出了色彩兵分的烟花，弄得大家兴奋的大喊大叫，便慌忙地拍起照来。忽然，有人唱起了国歌，我们就跟着唱，国歌唱完后，爆出了最多的烟花。眼看烟花把整个天空点亮了，大家感到很开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1:33:42Z</dcterms:created>
  <dc:creator>Fujitsu</dc:creator>
  <dc:description/>
  <dc:language>en-US</dc:language>
  <cp:lastModifiedBy>Fujitsu</cp:lastModifiedBy>
  <dcterms:modified xsi:type="dcterms:W3CDTF">2011-07-26T11:42:11Z</dcterms:modified>
  <cp:revision>2</cp:revision>
  <dc:subject/>
  <dc:title>国庆礼包</dc:title>
</cp:coreProperties>
</file>